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6353-30A7-4C6E-A18D-47072F41F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8B32-F502-4024-BFD4-9513E2076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6010-BDB1-45FA-AE8B-95E1A4872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6056-C9CA-4E4D-B25D-47E5CBF79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8DE3-4B80-416D-BDED-B59362143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1745-4AB2-4354-993A-D41BD47A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BDDA-62A6-4FBF-BD33-F9B68C730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7ABE-9D1F-4EAD-A9E6-85301A1DA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7A39-7CCC-47CA-8EBB-EDF06081D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18F5-3085-4F96-BA5E-8C5964462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BF59-5E7B-4092-AA9B-A1C5D4710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1881-D117-4F3C-A24B-3A1556990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3F94-A8C6-49D5-A353-E6479602B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73A8-98EB-4D25-9633-8F11599E1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29FD-41DC-4F73-80FE-8AC639B93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5268-DE81-49AC-AB2F-E1C68A893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F2C5-A3AE-4DC5-98CF-B3BE71B55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87D9-D878-413F-9C20-9CB21F30A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1311-9073-439A-9D19-2DFD2B09B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6174-AFF7-46E0-8968-F579C731C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9535-8455-4954-BAD1-D114E843E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A110-3C06-4158-9FEF-F1F214091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B953-5904-4A3F-A7E8-910FBBCE1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2237-E954-4684-A6DE-B1C575673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5559-ADED-477A-B894-1CEB4C706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2AEE-3B47-4A5D-9844-1EDD63679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95E4-AB7A-4696-BB62-DEFA0D74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8606-367C-4884-AD0A-004BC8413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3972-92B6-4010-9B8B-F2CEA8357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0F0A-88F1-442B-8AD3-481B1A449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A1C-771C-4158-A4B9-FAB132DA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25E-9CDC-4BA6-8A63-89681BC4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E8E-D747-4318-88CC-13CA1A69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C44-1B6D-449D-85CF-174FDA06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102B-822E-4E2A-932A-535D9299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BC9E-E4CC-49F7-AB53-3A4B0DB0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6965-C1E5-4771-A69C-FA2953EE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649B-F6E6-4A08-BA9E-06242EF5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5B3F-835D-4E8A-8DBC-7FB23391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4048-A173-40B3-BA06-A8537F3C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DBD9-74B6-4BAC-A8DC-559BA26F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C4A-5EC9-4290-80AA-A6AC5F9A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B94C-D09C-4165-891C-F0C237DA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F4F1-FA46-455A-A745-E6002EE8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AFBD-E131-46CE-B775-4F4CAA2C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38C4-641A-429D-997E-51DCD89E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37F1-96FF-445B-B55D-486319E1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DDF-DB9A-44F7-B199-1CF49A19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945-4A78-4B2F-97EB-87343678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E13-285A-440A-A189-E263CA8B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1FB-C562-49DE-90F6-ABECC2C5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E23-A512-45A6-8A58-B51DF892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59F-7825-437C-BA27-9B64176C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324-4EF0-46DB-839E-6802B44B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451C-BADF-49DC-B379-18E555B9D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F2A2-7904-4445-BE3F-179C1AD21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fferentiated Instr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3581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hinking Our Classroo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I is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act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qualitative than quantitat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oted in assess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multiple approaches to content, process, and produ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-center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end of whole-class, group, and individual instr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to Differentiate Instruction in Mixed-Ability Classrooms – Carol Ann Tomlins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oup 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effective Classro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ctive Classro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mplary Classro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ccess - Achiev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e stud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Different Teach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the results be differen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onents of Differentiated Instr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Environ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iculum – Cont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ssment – Produ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ction -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ain Needs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e principles from brain research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otional safety, appropriate challenges, and self constructed meanings suggest that a one-size-fits all approach to classroom instruction is ineffective for most students and harmful to some.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each Me Teach My Brain – A Call for Differentiated Classrooms – Carol Ann Tomlins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ain Compatible Learn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in research confirms what experienced teachers have always known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wo children are alik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wo children learn in an identical w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nriched environment for one student is not necessarily enriched for anoth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should teach children to think for themselv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ain Compatible Learn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in doesn’t need motivated to learn any more than the heart needs to be motivated to pump blood.   Most classrooms actually de-motivate children to lear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slie Ha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ain Compatible Classroo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Brain Compatible Fundamenta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otional Wellness and Safe Environ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are students’ emotions linked to memory and learning?  How do stress and emotions affect student learning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, Movement, and the Bra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 oxygen, water, sleep, certain foods, and movement affect students’ brains and their learning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vant Content and Student Cho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es the brain remember some information and skills more readily than others?  How, when, and why should we offer student choice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, Time, and More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three time elements dramatically affect when and how well students learn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richment for the Bra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enrichment just for gifted kid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ssment and Feedbac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forms of assessment are and are not brain compatible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and why do students learn effectively through collaborating with others, both adults and peer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otional Wellness and Safe Environ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all your most memorable school experi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ystalliz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lyz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ss and Mem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-term stress=memory impair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fe Environ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 of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ations for Stud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cher Behavio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ives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 is and is N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in Researc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s of D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ining Learning Sty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ing Your Students For Differenti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dy, Movement, and the Brai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in uses 1/5 of body’s oxygen – weighs about 1/7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f the body’s total we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in’s second favorite foo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age 12-17 need 8.5 – 9.25 hours of slee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uits and vegetabl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eakfas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s oxygen level in the body by 2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ge loc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levant Content and Student Cho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tterns and conne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 cho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SDTVFBIJFKUS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Y PPS SASE SNC L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dnuolt blveiee taht I cluod aulaclty uesdnatnrd waht I was rdanieg. The phaonmneal pweor of the hmuan mnid, aoccdrnig to a rscheearch at Cmabrigde Uinervtisy, it dseno't mtaetr in waht oerdr the ltteres in a wrod are, the olny iproamtnt tihng is taht the frsit and lsat ltteer be in the rghit pclae. The rset can be a taotl mses and you can sitll raed it whotuit a pboerlm. Tihs is bcuseae the huamn mnid deos not raed ervey lteter b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tlef, but the wrod as a wlohe. Azanmig huh? yaeh and I awlyas tghuhot slpeling was ipmorantt!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me, Time, and More Ti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on Tas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minute per year – 20 minute max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breaks to increase productivity, quality, and mora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ed for More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actice over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ual understanding linked to prior knowled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portune Time Periods for Lear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richment for the B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zzles, brainteas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of the d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om’s Taxonom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lifting so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ground mus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ngs for learn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Environ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wnersh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ors/Patter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ber from 1 to 6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6 x 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number is 1000 less than 18,294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About how much is 3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¢ and 29¢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. What is 1/10 of 45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. Draw a picture of 1 2/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6. About how much do you weigh in k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sessment and Feedbac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henti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ie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ctations/Rubr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p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mod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r and Sh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perative Lear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oup 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laboration between School and Commun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ainwashings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children can lear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are a gifted teacher of gifted childre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s are no better than the assignments they are give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 is fai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nk outside the box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gnitive Learning Sty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rete Sequent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 Sequent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 Rand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rete Rand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awing Your B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Intelligen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bal/Linguist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/Spat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l/Mathemati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al/Rhythm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erson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aperson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ily/Kinesthet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ist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enti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rning Modal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di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nestheti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ing Your Students for Different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Sty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 Inventor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irness Activi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e call </a:t>
            </a: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differentiation</a:t>
            </a:r>
            <a:r>
              <a:rPr b="0" i="1" lang="en-US" sz="3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not a recipe for teaching.  It is not an instructional strategy.  It is not what a teacher does when s/he has time.  It is a way of thinking about teaching and learning.  It is a philosophy.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Carol Ann Tomlins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dset – Behavior - Resul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beliefs and attitudes create your mindse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mindset determines your behavio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behavior determines the results you produc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understand your mindset, look at the results that you produc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roduce different (more desirable) results on a consistent basis, change your mindset!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Performance Fac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les of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ort produces achie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is about making 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 with and through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takes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vation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for School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les of Te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acher ma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cused teaching promotes accelerate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r expectations and continuous feedback activat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teaching builds on students’ strengths and respects individuals’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teaching involves modeling what students should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for School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les of Te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acher ma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cused teaching promotes accelerate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r expectations and continuous feedback activat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teaching builds on students’ strengths and respects individuals’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teaching involves modeling what students should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for School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I is NOT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vidualized Instruction” of the 1970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oti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 way to provide homogeneous group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iloring the same suit of clothes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to Differentiate Instruction in Mixed-Ability Classrooms – Carol Ann Tomlins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1:00:40Z</dcterms:created>
  <dc:creator>Philip J. Pockey</dc:creator>
  <dc:description/>
  <cp:keywords/>
  <dc:language>en-US</dc:language>
  <cp:lastModifiedBy>ccotner</cp:lastModifiedBy>
  <dcterms:modified xsi:type="dcterms:W3CDTF">2008-04-20T16:14:41Z</dcterms:modified>
  <cp:revision>24</cp:revision>
  <dc:subject/>
  <dc:title>Differentiated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01033</vt:lpwstr>
  </property>
</Properties>
</file>